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BA0-7FA8-46CD-822A-02ACF209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B8D-19FE-4402-812A-5FE4B881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716-6899-47F5-B267-2AF8EBEF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A0A-7E1A-4947-BC8B-5946174C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BE3-07C1-40D0-9F88-819A123B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F51-A9CD-4696-AEAD-C62984EC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B7D-A830-4B93-9EAF-07381EB7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9DE-4D91-44EA-8D2B-E8774BB3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889-F5F3-4CFF-9C1B-3A541EDA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74B-37FC-4604-AE8F-DE95D8AA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7D0-E431-4749-BA93-992E9B5C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1F0-0E1D-4E84-A39A-2ADD40D7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FEF0-0AD3-4710-82D9-C99A8E08F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2000" y="981000"/>
            <a:ext cx="6624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 of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sion Lesson – S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end of the lesson you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understanding of types of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o make performance in hockey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p methods of gather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e your results and se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i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se effect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of Gather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sed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you must know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carrie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vironment is it completed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formation does it give 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valid/appropri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orksh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for unit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 1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vi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f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hese types of fitness important in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used to ga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gather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9:48:54Z</dcterms:created>
  <dc:creator>hamiltonp</dc:creator>
  <dc:description/>
  <dc:language>en-US</dc:language>
  <cp:lastModifiedBy>hamiltonp</cp:lastModifiedBy>
  <dcterms:modified xsi:type="dcterms:W3CDTF">2010-11-09T09:57:57Z</dcterms:modified>
  <cp:revision>1</cp:revision>
  <dc:subject/>
  <dc:title>Slide 1</dc:title>
</cp:coreProperties>
</file>